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AE4-0906-43BA-BEC8-E0766B5F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10F-AA6A-46FC-9E14-B951D2E9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90A-EAD4-4EF8-BDB3-FE582AA9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06E-1AEA-4873-A608-7388EED9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4783-ABDC-4061-A5F6-FEA2934C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FBC7-0E86-4E68-9149-6D800773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F923-7EA2-42BD-9488-D2026236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5B83-C9EC-48D2-BE64-8B9DDE97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AEB8-9028-4C6A-8E63-607E6682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33DA-3A38-4DC3-AF6D-7801F9CE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06CF-DD71-4B84-ABE0-8E0EBF06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81A-01A3-43E3-A908-1146C394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B3CA-1D1A-41D7-B504-C24DF70F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DD4A-F7D1-4422-9FFD-7B6FA6AE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A59C-F9F6-45C3-A694-81DB97A1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FAAD-2208-4EFA-B0D4-9B616890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44A8-C742-4049-A0E8-4BC1A569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9E6-EDCD-4077-BF54-8DE88A84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57B-7CC4-46D7-A13F-D14E200A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C31-26F1-4F46-A76B-72501C4D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6EC-A1A8-43CA-9483-85F64DA6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EE3-EB44-4E6D-B5EB-F21DB568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0A2-38F0-4C42-A8EF-EBE82EEF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A6A-FAF6-4B2F-8B2B-9FA0DB12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7505-928C-4DAF-B2B6-0C20047B6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9697-D2CF-42D7-AC9F-AC66CD92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Word Buckets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uckets to categorize vocabulary words! Whole group, or 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Word Bucke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hole group, place “buckets” with category labels in the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ach student or student partners a vocabulary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take turns placing their word by the correct bu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played with teams for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asily be adapted to a station after it has been int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4:56:33Z</dcterms:modified>
  <cp:revision>8</cp:revision>
  <dc:subject/>
  <dc:title>Light Up the World A vocabulary game from Mentoring Minds Grades 1-4</dc:title>
</cp:coreProperties>
</file>